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2F758-05CE-4611-A762-38B558687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BB321-256B-4CCF-989F-01D9A97A1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C457D-866D-45CC-BC6B-4E5DF8495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4D4AC-675D-49B7-BA14-5A2CAA0BC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846F1-F2C9-4A2D-BE0E-09733156F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B004D-21E6-4596-AFA2-C1835C25E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26B50-CADA-437D-AC53-8376619C6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501FF-B4D4-4D5E-A598-44344010E2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CE8AD5-81C7-4791-AD90-52CFA2248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E42DB-89A6-446A-858F-EE8AE79CA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97C8-EA37-4D92-8A02-E9E37A756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6EF18-70D4-49AD-973B-15F959F41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84189-70D7-4ED7-A318-E99E9DE6D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C25F6-CC60-48D2-8216-2D219F91B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02765-C826-414D-9CED-75F1C3CE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E1B63-2DFC-4851-A362-22510E2DD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F5DA5-B78B-4FD1-BAEF-1DF30D014E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AECC6-0562-4B85-A24F-8784039CA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DB8C-6C1C-4D46-B783-29EA771B2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D5B3-AD26-47AF-B758-992E536DC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29713-9629-4F5E-BE45-E131ACFFB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9A94D-942A-491E-822B-E4779048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1DB46-1243-4F9F-8B23-74EE169F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A8176-41FB-4CB5-9D93-9915BDBD6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DFA5-1EF0-4579-9E01-ED314BF20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F24A-0E4F-4242-B6A5-2919F431A1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656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nical Oncology for Medical Dosimetrist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2361960" y="2860560"/>
            <a:ext cx="6095880" cy="311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S 431/531</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Wisconsin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Cros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0"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p:txBody>
      </p:sp>
      <p:pic>
        <p:nvPicPr>
          <p:cNvPr id="231" name="Picture 4" descr="nasopharynx field borders"/>
          <p:cNvPicPr/>
          <p:nvPr/>
        </p:nvPicPr>
        <p:blipFill>
          <a:blip r:embed="rId1"/>
          <a:stretch/>
        </p:blipFill>
        <p:spPr>
          <a:xfrm>
            <a:off x="2133720" y="2514600"/>
            <a:ext cx="5333760" cy="3917880"/>
          </a:xfrm>
          <a:prstGeom prst="rect">
            <a:avLst/>
          </a:prstGeom>
          <a:ln w="28440">
            <a:solidFill>
              <a:srgbClr val="0033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es</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field dose: 4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fields and use 9MeV electrons to take post. neck nodes to 50-60Gy</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sopharynx: 65-7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20-25Gy may use high-energy photons (18MV) to reduce dose to the mandible and TMJ</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neck and supraclav fossa: 50Gy</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achytherapy</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chytherapy can be used to treat nasopharyngeal tumor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can be interstitial or intracavitary implan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recently, HDR afterloading units have been used to treat intracavitary nasopharynx tumo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sopharynx Brachytherapy</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DR technique</a:t>
            </a:r>
            <a:endParaRPr b="0" lang="en-US" sz="36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8" name="Picture 4" descr="nasopharynx implant HDR"/>
          <p:cNvPicPr/>
          <p:nvPr/>
        </p:nvPicPr>
        <p:blipFill>
          <a:blip r:embed="rId1"/>
          <a:stretch/>
        </p:blipFill>
        <p:spPr>
          <a:xfrm>
            <a:off x="762120" y="3505320"/>
            <a:ext cx="4343400" cy="1420560"/>
          </a:xfrm>
          <a:prstGeom prst="rect">
            <a:avLst/>
          </a:prstGeom>
          <a:ln w="19080">
            <a:solidFill>
              <a:srgbClr val="000000"/>
            </a:solidFill>
            <a:miter/>
          </a:ln>
        </p:spPr>
      </p:pic>
      <p:pic>
        <p:nvPicPr>
          <p:cNvPr id="239" name="Picture 5" descr="nasopharynx HDR films"/>
          <p:cNvPicPr/>
          <p:nvPr/>
        </p:nvPicPr>
        <p:blipFill>
          <a:blip r:embed="rId2"/>
          <a:stretch/>
        </p:blipFill>
        <p:spPr>
          <a:xfrm>
            <a:off x="5257800" y="4267080"/>
            <a:ext cx="3562200" cy="1943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sopharynx</a:t>
            </a:r>
            <a:endParaRPr b="0" lang="en-US" sz="4400" spc="-1" strike="noStrike">
              <a:solidFill>
                <a:srgbClr val="003366"/>
              </a:solidFill>
              <a:latin typeface="Verdana"/>
            </a:endParaRPr>
          </a:p>
        </p:txBody>
      </p:sp>
      <p:sp>
        <p:nvSpPr>
          <p:cNvPr id="213"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Epidemiology</a:t>
            </a:r>
            <a:endParaRPr b="0" lang="en-US" sz="4400" spc="-1" strike="noStrike">
              <a:solidFill>
                <a:srgbClr val="003366"/>
              </a:solidFill>
              <a:latin typeface="Verdana"/>
            </a:endParaRPr>
          </a:p>
        </p:txBody>
      </p:sp>
      <p:sp>
        <p:nvSpPr>
          <p:cNvPr id="21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mmon in most countrie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incidence: China, Southeast Asia, and in Eskimos</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aks in 4</a:t>
            </a:r>
            <a:r>
              <a:rPr b="0" lang="en-US" sz="2800" spc="-1" strike="noStrike" baseline="30000">
                <a:solidFill>
                  <a:srgbClr val="000000"/>
                </a:solidFill>
                <a:latin typeface="Verdana"/>
              </a:rPr>
              <a:t>th</a:t>
            </a:r>
            <a:r>
              <a:rPr b="0" lang="en-US" sz="2800" spc="-1" strike="noStrike">
                <a:solidFill>
                  <a:srgbClr val="000000"/>
                </a:solidFill>
                <a:latin typeface="Verdana"/>
              </a:rPr>
              <a:t>-5</a:t>
            </a:r>
            <a:r>
              <a:rPr b="0" lang="en-US" sz="2800" spc="-1" strike="noStrike" baseline="30000">
                <a:solidFill>
                  <a:srgbClr val="000000"/>
                </a:solidFill>
                <a:latin typeface="Verdana"/>
              </a:rPr>
              <a:t>th</a:t>
            </a:r>
            <a:r>
              <a:rPr b="0" lang="en-US" sz="2800" spc="-1" strike="noStrike">
                <a:solidFill>
                  <a:srgbClr val="000000"/>
                </a:solidFill>
                <a:latin typeface="Verdana"/>
              </a:rPr>
              <a:t> decade of life</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major etiologic factor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al: Ebstein-Barr virus (EBV)</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tic: human leukocyte antigen (HLA)</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al: poor ventilation, occupational exposures to smoke or dusts, and di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a:t>
            </a:r>
            <a:endParaRPr b="0" lang="en-US" sz="4400" spc="-1" strike="noStrike">
              <a:solidFill>
                <a:srgbClr val="003366"/>
              </a:solidFill>
              <a:latin typeface="Verdana"/>
            </a:endParaRPr>
          </a:p>
        </p:txBody>
      </p:sp>
      <p:sp>
        <p:nvSpPr>
          <p:cNvPr id="21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asopharynx is a roughly cuboidal, open chamber located below the base of the skull and behind the nasal cavit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ders of the nasopharynx:</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border: posterior choana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order: first 2 cervical vertebrae and the clivu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border: body of the sphenoi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border: soft pal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 Cont. </a:t>
            </a:r>
            <a:endParaRPr b="0" lang="en-US" sz="4400" spc="-1" strike="noStrike">
              <a:solidFill>
                <a:srgbClr val="003366"/>
              </a:solidFill>
              <a:latin typeface="Verdana"/>
            </a:endParaRPr>
          </a:p>
        </p:txBody>
      </p:sp>
      <p:pic>
        <p:nvPicPr>
          <p:cNvPr id="219" name="Picture 5" descr="nasopharynx anatomy"/>
          <p:cNvPicPr/>
          <p:nvPr/>
        </p:nvPicPr>
        <p:blipFill>
          <a:blip r:embed="rId1"/>
          <a:stretch/>
        </p:blipFill>
        <p:spPr>
          <a:xfrm>
            <a:off x="1905120" y="2286000"/>
            <a:ext cx="5638680" cy="3565440"/>
          </a:xfrm>
          <a:prstGeom prst="rect">
            <a:avLst/>
          </a:prstGeom>
          <a:ln w="28440">
            <a:solidFill>
              <a:srgbClr val="003366"/>
            </a:solidFill>
            <a:miter/>
          </a:ln>
        </p:spPr>
      </p:pic>
      <p:sp>
        <p:nvSpPr>
          <p:cNvPr id="220" name="Text Box 7"/>
          <p:cNvSpPr/>
          <p:nvPr/>
        </p:nvSpPr>
        <p:spPr>
          <a:xfrm>
            <a:off x="2133720" y="594360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Nasopharyn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Pathology and Lymphatics</a:t>
            </a:r>
            <a:endParaRPr b="0" lang="en-US" sz="4000" spc="-1" strike="noStrike">
              <a:solidFill>
                <a:srgbClr val="003366"/>
              </a:solidFill>
              <a:latin typeface="Verdana"/>
            </a:endParaRPr>
          </a:p>
        </p:txBody>
      </p:sp>
      <p:sp>
        <p:nvSpPr>
          <p:cNvPr id="222"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pidermoid or undifferentiated carcinomas make up about 90% of malignant nasopharynx tumor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mphoma, plasmacytoma, melanoma, rhabdomysarcoma, chordoma, and tumors of minor salivary gland origin make up the remaining 1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ly involved lymph nodes:</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vical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gulodigastric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raclav no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Staging and Management</a:t>
            </a:r>
            <a:endParaRPr b="0" lang="en-US" sz="4000" spc="-1" strike="noStrike">
              <a:solidFill>
                <a:srgbClr val="003366"/>
              </a:solidFill>
              <a:latin typeface="Verdana"/>
            </a:endParaRPr>
          </a:p>
        </p:txBody>
      </p:sp>
      <p:sp>
        <p:nvSpPr>
          <p:cNvPr id="224"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ging systems may be used; however, the most common system used is the TNM staging system.  See Table in Chao</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diation therapy is the treatment of choice for nasopharynx tumo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radiotherapy has shown to increase survival as well</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gical resection with acceptable margins is not possi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982440"/>
            <a:ext cx="81630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Radiation Therapy Techniques</a:t>
            </a:r>
            <a:endParaRPr b="0" lang="en-US" sz="3600" spc="-1" strike="noStrike">
              <a:solidFill>
                <a:srgbClr val="003366"/>
              </a:solidFill>
              <a:latin typeface="Verdana"/>
            </a:endParaRPr>
          </a:p>
        </p:txBody>
      </p:sp>
      <p:sp>
        <p:nvSpPr>
          <p:cNvPr id="226"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sed lateral fields with a 5 degree posterior angle (to help avoid direct ipsilateral dose to the external and middle ear, as well as the contralateral len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lumes included: nasopharynx, adjacent parapharyngeal tissues, cervical lymphatics (jugular, spinal accessory, and supraclav nodes), post. ethmoid cells, sphenoid sinus, and basosphenoid, base of skull, post. nasal cavity and maxillary antrum, and lateral and post. pharyngeal wall to the lower pole of tonsil, in addition to the retropharyngeal, upper cervical, mastoid, and posterior cervical lymph node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ateral anterior supraclav field is always included</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line block is use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28" name="PlaceHolder 2"/>
          <p:cNvSpPr>
            <a:spLocks noGrp="1"/>
          </p:cNvSpPr>
          <p:nvPr>
            <p:ph/>
          </p:nvPr>
        </p:nvSpPr>
        <p:spPr>
          <a:xfrm>
            <a:off x="912600" y="1752480"/>
            <a:ext cx="8110440" cy="5105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posterior 2cm of nasal cavity; posterior 1/3 of maxillary sinus; posterior ethmoid sinuses; posterior ¼ of orbi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ehind spinous proces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entire sphenoid sinus; cavernous sinus; base of skul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thyroid notch or above the laryn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0:57:59Z</dcterms:created>
  <dc:creator>Steven Paul Engstrom</dc:creator>
  <dc:description/>
  <dc:language>en-US</dc:language>
  <cp:lastModifiedBy>Libby Hilsendager</cp:lastModifiedBy>
  <dcterms:modified xsi:type="dcterms:W3CDTF">2013-05-23T14:25:59Z</dcterms:modified>
  <cp:revision>12</cp:revision>
  <dc:subject/>
  <dc:title>Clinical Oncology for Medical Dosimetrists</dc:title>
</cp:coreProperties>
</file>